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BA96-EF94-400A-9BEE-C8CE0F5C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11A8-B60D-4172-ABF8-31279CA5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A5E-CEC1-4C18-941E-47090C13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1014-4866-4181-8D30-07FC0A19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78072-F900-4927-94A4-ABC906B9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14FCE-8DAA-46EA-BC18-6C2B1CD9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D98A1-E678-4339-8EE1-D9B64BD9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D6D3E-1330-4252-B11B-C7D04CA8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15967-A43A-4B5F-8174-E6837F79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B802B-9143-4206-9F3C-BBE7E5D4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F4B10-9E0D-44CF-967F-E2DE04AE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6D6-E371-435C-BDCA-3860CDD2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683DD-0C60-48AF-9855-E09FEF0E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ABB26-CBD0-4383-9C59-E11DA292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DF730-A0EF-406B-AB76-B72117F0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48950-C14E-411D-8098-6299C268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B0F04-9700-47B5-A0D7-9A448A6E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6938-5E37-4E29-B0B1-DEB85641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541-8A70-4065-BB89-ED8B0D5C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7D97-F117-48A1-8A59-2B0A9133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6EA0-E8F5-440E-BA07-2FFE7A97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A071-12DE-4A9A-8481-CF9BD6DB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5255-E738-444E-9F4D-B7A1AC61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9F0C-CE82-48C7-8D05-776FCB43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AEDB-116F-4F34-9920-4ED4EEBEE1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6EE0-011A-4EF3-975A-F21AAB0C6E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50640"/>
            <a:ext cx="77724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lossian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arter 12 Lesson 1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 True Christian Should B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inue earnestly in pra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lk in wis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your speech be full of gr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 Greeting And Clos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gives a quick rundown on his companions who have helped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also gives instructions on where the letter is to be r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ember my chain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lory of Chr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ist is all you n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let anyone spoil your gif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 true Christian should 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 Greeting and Clo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ee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- an apos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othy is with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ten to the faithful brethren in Colos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pray for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heard of your faith in Je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ee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have a hope laid for you in hea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aphras has told us of your love in the Spir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Glory Of Chri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has all knowled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has all 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has all wis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has all spiritual under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rist Is All You Ne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ist has saved you from dea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him you were reconci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ere alienated and he brought you into the f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joice in your suff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 can work in you mighti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 Not Let Anyone Spoil Your Gif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ware of philosophy and empty deci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let anyone distract you with meaningless tradi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ware of false hum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t to rest your past habits of s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 True Christian Should B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ember these traits: tender mercy,kindness,humility,meekness,longsuff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of all- Lo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the peace of God dwell in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the Word of God dwell in you al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everything in the name of the L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 True Christian Should B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ves should submit to husb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sbands love your w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ldren obey your par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ants obey your ma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ters be good to serv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02:01:30Z</dcterms:created>
  <dc:creator>Jarrod S. Vines</dc:creator>
  <dc:description/>
  <dc:language>en-US</dc:language>
  <cp:lastModifiedBy>Tab</cp:lastModifiedBy>
  <dcterms:modified xsi:type="dcterms:W3CDTF">2007-03-07T23:23:39Z</dcterms:modified>
  <cp:revision>3</cp:revision>
  <dc:subject/>
  <dc:title>Colossians Quarter 12 Lesson 17</dc:title>
</cp:coreProperties>
</file>